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51E9-6C49-4759-AE1D-7A31BFC2F7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477-4B51-41A9-A307-2705321D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1B3-EA81-49C1-8BC5-330E231A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C86-DCDF-463E-B9EC-895F0192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6E9-A424-41E1-BC35-DB03D066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EA9A-BB94-4EFD-AAAC-2A3463D9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C117-8A9A-4E63-A917-31FD6C81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1722-D4CB-4F9B-8FA9-9B5B9AFE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8BD1-B955-4554-8E9B-6C066EF3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A5D2-42A6-4FF0-91AF-5916F757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7211-8C6B-44AC-B689-9650802E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B187-4D48-44F5-A161-CE652586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E58-9556-4270-A8B8-0C6AA94C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56CC-272C-4D98-8331-78EE6C7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39DE-6F27-4F7E-9D6B-53D6CD57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6D92-4904-41CF-ADEA-3A835D28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2E59-BCC5-48DE-AB2B-3B52C98F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4B0B-13D0-4AA2-8EDD-A1723005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1F6-692D-4FBC-A89B-FE958973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B4F-EF7E-4443-83B3-17D71514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C12-7DF1-4AA0-AE35-72486AFF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DD5-6518-4BE2-8D64-C7A86B7C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0DD-7F9E-4B59-ABB6-4C722D07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B75-88E6-4DCD-9B03-69F7A19A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9F5-499D-42D0-9114-4CBC6CD3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87BF-6D45-4946-8D4D-498F66AB2009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A51D-B3A6-44E1-A63B-A8F6654B69E2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RomaK</cp:lastModifiedBy>
  <dcterms:modified xsi:type="dcterms:W3CDTF">2015-09-04T09:30:27Z</dcterms:modified>
  <cp:revision>8</cp:revision>
  <dc:subject/>
  <dc:title>No Slide Title</dc:title>
</cp:coreProperties>
</file>